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D65-5585-409C-95F5-45A2AFD6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2B9-6ED5-4922-B37A-E5C68560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E94-583A-4DD7-BB31-5DB93B59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2C9-6B50-426A-9760-D6C92086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D61C-6E1E-446C-9254-0BBD4C4A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F32D-F52C-4E0F-994E-34B63AB4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0FE6-B794-4C85-BF20-91209D71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11B9-DA65-4F1C-8CB2-D63FB01F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5D3A-1CD2-453C-A779-F11A342D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F469-8928-4064-BDD4-E9B7F735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74A9-99D0-4143-AA5C-1737344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4E9-FE44-49C0-800C-FEBEC86E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4203-9760-4137-A7D8-554584D2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13D4-2D61-4C1C-BAFF-B86A15AE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7058-8ACC-46F3-8215-CB572420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6401-2C6A-4726-90C9-73526173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EAED-A94E-43A3-9050-5BFB0708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323-28DF-4930-9DE2-8DB34009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F00-2295-4ED7-8CA3-BE14AC0D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202-DDDC-4520-9233-DF03F74D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EBA-6832-4C52-8810-6A86E7E0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2F4-7BCF-4B01-9DD4-EAABC7D6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61D-D7F3-4165-A400-75952CAC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37E-6F20-4853-8FD6-97FCBCF5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DDC2-9629-4367-9275-EEC11E5091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A9E2-5D08-4C00-9232-6868C38422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Tahoma"/>
              </a:rPr>
              <a:t>Cell Types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karyotes and Eukaryo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ll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living things are mad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the basic uni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living th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come fr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-exist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karyo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ms that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cellul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made of on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ll and d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ave membrane bou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ganel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Prokaryo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re simple cell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o no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a nucleus or any other complex organell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karyo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karyotes do ha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bos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 of Prokaryo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onl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examples of Prokaryotes ar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Bacte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ukaryo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sms that have membrane bou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ganel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Eukaryo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can be organisms made of one cell (Unicellular) or many cells (Multicellula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ukaryot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ukaryotes have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nucleu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which contains the cell’s DN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long with a nucleus eukaryotes have many complex functional parts called organell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ukaryotes do have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ibosom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ell Membran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tochondria, Golgi Complex, Chloroplas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 of Eukaryo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karyotes are all organisms that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acte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tis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lgae, Paramecium and Seaw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ung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Molds, Yeasts and Mushr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la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Grass, Trees, Flowers…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im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Insects, Fish, Mammals...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karyotes and Eukaryo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54097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ft- Prokaryo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-Eukary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cells"/>
          <p:cNvPicPr/>
          <p:nvPr/>
        </p:nvPicPr>
        <p:blipFill>
          <a:blip r:embed="rId1"/>
          <a:stretch/>
        </p:blipFill>
        <p:spPr>
          <a:xfrm>
            <a:off x="1523880" y="1447920"/>
            <a:ext cx="62485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9:31:21Z</dcterms:created>
  <dc:creator>AISD</dc:creator>
  <dc:description/>
  <dc:language>en-US</dc:language>
  <cp:lastModifiedBy>AISD</cp:lastModifiedBy>
  <dcterms:modified xsi:type="dcterms:W3CDTF">2010-09-02T21:35:17Z</dcterms:modified>
  <cp:revision>7</cp:revision>
  <dc:subject/>
  <dc:title>Cell Types</dc:title>
</cp:coreProperties>
</file>